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0C8-EA0D-4764-B913-3EC13801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1EA-A6C5-4197-8245-AABB2A77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CD1-E0E0-4E09-887B-1D9ABA81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581-292B-422A-A4EA-57F5685D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C72-5022-4750-A1CE-BE5EA0BD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2BC-8E31-4851-94D6-321702DB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D45-C7ED-499B-ACAC-767A9A76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84E-648A-4045-B5EB-7EA2B762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B29-69B6-4923-A39D-BDCC75AF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B21-24FC-4284-B7B0-EF1BDA6A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234-BBC6-4C79-A6EE-0B7DC537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9F6-4DA5-40E0-9502-55507B3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5B0D-E856-4930-BC9D-9CC84BEFB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of Extraneous Fac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? Why? How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Nancy D. Ba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How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 we control for extraneous facto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Options – prior to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ptions – after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Desig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What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es it mean to control for extraneous facto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ake into account other known factors that may influence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03" t="2316" r="2003" b="23670"/>
          <a:stretch/>
        </p:blipFill>
        <p:spPr>
          <a:xfrm>
            <a:off x="1981080" y="175248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4724280"/>
            <a:ext cx="5105520" cy="1051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2003" t="2316" r="2003" b="23670"/>
          <a:stretch/>
        </p:blipFill>
        <p:spPr>
          <a:xfrm>
            <a:off x="1981080" y="175248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003" t="2316" r="2003" b="12279"/>
          <a:stretch/>
        </p:blipFill>
        <p:spPr>
          <a:xfrm>
            <a:off x="1981080" y="175248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5181480"/>
            <a:ext cx="5105520" cy="148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2003" t="2316" r="2003" b="12279"/>
          <a:stretch/>
        </p:blipFill>
        <p:spPr>
          <a:xfrm>
            <a:off x="1981080" y="175248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003" t="2316" r="2003" b="50244"/>
          <a:stretch/>
        </p:blipFill>
        <p:spPr>
          <a:xfrm>
            <a:off x="1981080" y="17524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003" t="2641" r="2003" b="10227"/>
          <a:stretch/>
        </p:blipFill>
        <p:spPr>
          <a:xfrm>
            <a:off x="1981080" y="1752480"/>
            <a:ext cx="51055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5105520" cy="100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2003" t="2316" r="2003" b="50244"/>
          <a:stretch/>
        </p:blipFill>
        <p:spPr>
          <a:xfrm>
            <a:off x="1981080" y="17524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03" t="2316" r="2003" b="40756"/>
          <a:stretch/>
        </p:blipFill>
        <p:spPr>
          <a:xfrm>
            <a:off x="1981080" y="1752480"/>
            <a:ext cx="5105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003" t="2316" r="2003" b="40756"/>
          <a:stretch/>
        </p:blipFill>
        <p:spPr>
          <a:xfrm>
            <a:off x="1981080" y="1752480"/>
            <a:ext cx="51055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51055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03" t="2316" r="2003" b="35061"/>
          <a:stretch/>
        </p:blipFill>
        <p:spPr>
          <a:xfrm>
            <a:off x="1981080" y="1752480"/>
            <a:ext cx="510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2316" r="2003" b="35061"/>
          <a:stretch/>
        </p:blipFill>
        <p:spPr>
          <a:xfrm>
            <a:off x="1981080" y="1752480"/>
            <a:ext cx="510552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4267080"/>
            <a:ext cx="51055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003" t="2316" r="2003" b="29365"/>
          <a:stretch/>
        </p:blipFill>
        <p:spPr>
          <a:xfrm>
            <a:off x="1981080" y="1752480"/>
            <a:ext cx="510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003" t="2316" r="2003" b="29365"/>
          <a:stretch/>
        </p:blipFill>
        <p:spPr>
          <a:xfrm>
            <a:off x="1981080" y="1752480"/>
            <a:ext cx="510552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1080" y="4495680"/>
            <a:ext cx="510552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Analysi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ifi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003" t="2316" r="2003" b="74916"/>
          <a:stretch/>
        </p:blipFill>
        <p:spPr>
          <a:xfrm>
            <a:off x="1981080" y="1752480"/>
            <a:ext cx="5105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003" t="2316" r="2003" b="74916"/>
          <a:stretch/>
        </p:blipFill>
        <p:spPr>
          <a:xfrm>
            <a:off x="1981080" y="1752480"/>
            <a:ext cx="510552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055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2003" t="34585" r="2003" b="50244"/>
          <a:stretch/>
        </p:blipFill>
        <p:spPr>
          <a:xfrm>
            <a:off x="1981080" y="3429000"/>
            <a:ext cx="5105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2003" t="34585" r="2003" b="50244"/>
          <a:stretch/>
        </p:blipFill>
        <p:spPr>
          <a:xfrm>
            <a:off x="1981080" y="3429000"/>
            <a:ext cx="5105520" cy="60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981080" y="4038480"/>
            <a:ext cx="5105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2003" t="47866" r="2003" b="35061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18c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219320"/>
            <a:ext cx="51055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we typically think of when we contro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 form 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2003" t="47866" r="2003" b="35061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105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2003" t="61159" r="2003" b="21767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2003" t="61159" r="2003" b="21767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105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2003" t="40280" r="2003" b="48341"/>
          <a:stretch/>
        </p:blipFill>
        <p:spPr>
          <a:xfrm>
            <a:off x="1981080" y="3962520"/>
            <a:ext cx="5105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055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05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05520" cy="54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51055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Why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 we control for extraneous variab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003" t="2316" r="2003" b="46451"/>
          <a:stretch/>
        </p:blipFill>
        <p:spPr>
          <a:xfrm>
            <a:off x="1981080" y="1752480"/>
            <a:ext cx="510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03" t="2316" r="2003" b="46451"/>
          <a:stretch/>
        </p:blipFill>
        <p:spPr>
          <a:xfrm>
            <a:off x="1981080" y="1752480"/>
            <a:ext cx="510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105520" cy="885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981080" y="4648320"/>
            <a:ext cx="51055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003" t="53561" r="2003" b="17975"/>
          <a:stretch/>
        </p:blipFill>
        <p:spPr>
          <a:xfrm>
            <a:off x="1981080" y="1752480"/>
            <a:ext cx="510552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510552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Nancy Barker</cp:lastModifiedBy>
  <dcterms:modified xsi:type="dcterms:W3CDTF">2004-02-17T15:20:51Z</dcterms:modified>
  <cp:revision>244</cp:revision>
  <dc:subject/>
  <dc:title>The Art in the State of the Art</dc:title>
</cp:coreProperties>
</file>